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9975-1266-40C6-ABAC-9F749290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E750-1D9D-4087-BA08-4E979081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342B-EF76-4E98-8ADB-AAA1BCFB0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CD20-2A4E-4477-AA83-DE93242A9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D48A-5C53-40CA-9926-95654EF4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3AC8-0AEB-4929-9E92-6F6B088F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2BB3-4DE9-4B3B-8D54-5CDF16FD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29C2-37C1-4AC9-8DE7-CAFC95CA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1A90-3E66-4917-8AC8-D08082D7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1FAC-9E36-46C0-9F78-B632A591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9DE2-B0A4-44FF-8A99-7467C2B9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963E-5B4B-46C9-84D9-A055C73A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990C-89F4-42D3-ADC3-00816D3D5F7B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7524720" y="6048360"/>
          <a:ext cx="1619280" cy="80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24720" y="6048360"/>
                    <a:ext cx="16192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00040c"/>
                </a:solidFill>
                <a:latin typeface="Times New Roman"/>
                <a:ea typeface="Times New Roman"/>
              </a:rPr>
              <a:t>Likert Item</a:t>
            </a: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42960" y="3286080"/>
          <a:ext cx="7772400" cy="755640"/>
        </p:xfrm>
        <a:graphic>
          <a:graphicData uri="http://schemas.openxmlformats.org/drawingml/2006/table">
            <a:tbl>
              <a:tblPr/>
              <a:tblGrid>
                <a:gridCol w="1928880"/>
                <a:gridCol w="1214280"/>
                <a:gridCol w="1143000"/>
                <a:gridCol w="1143000"/>
                <a:gridCol w="1143000"/>
                <a:gridCol w="1200240"/>
              </a:tblGrid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Statement</a:t>
                      </a:r>
                      <a:endParaRPr b="0" lang="en-US" sz="11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Strongly Disagree</a:t>
                      </a:r>
                      <a:endParaRPr b="0" lang="en-US" sz="11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isagree</a:t>
                      </a:r>
                      <a:endParaRPr b="0" lang="en-US" sz="11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Undecided</a:t>
                      </a:r>
                      <a:endParaRPr b="0" lang="en-US" sz="11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Agree</a:t>
                      </a:r>
                      <a:endParaRPr b="0" lang="en-US" sz="11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Strongly Agree</a:t>
                      </a:r>
                      <a:endParaRPr b="0" lang="en-US" sz="11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38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Police officials at this station are helpful</a:t>
                      </a:r>
                      <a:endParaRPr b="0" lang="en-US" sz="11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</a:tr>
            </a:tbl>
          </a:graphicData>
        </a:graphic>
      </p:graphicFrame>
      <p:sp>
        <p:nvSpPr>
          <p:cNvPr id="45" name="Rectangle 2"/>
          <p:cNvSpPr/>
          <p:nvPr/>
        </p:nvSpPr>
        <p:spPr>
          <a:xfrm>
            <a:off x="642960" y="243000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Rate your level of agreement with the following statemen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07:44:52Z</dcterms:created>
  <dc:creator>Michael</dc:creator>
  <dc:description/>
  <dc:language>en-US</dc:language>
  <cp:lastModifiedBy>user</cp:lastModifiedBy>
  <dcterms:modified xsi:type="dcterms:W3CDTF">2015-10-24T22:57:21Z</dcterms:modified>
  <cp:revision>398</cp:revision>
  <dc:subject>Likert item analysis</dc:subject>
  <dc:title>UKUG2009</dc:title>
</cp:coreProperties>
</file>