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14920"/>
            <a:ext cx="876312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5008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09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2718000"/>
            <a:ext cx="8458200" cy="109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214920"/>
            <a:ext cx="876312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5008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09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09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2718000"/>
            <a:ext cx="4127400" cy="109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4560" y="2718000"/>
            <a:ext cx="4127400" cy="109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214920"/>
            <a:ext cx="876312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5008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09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09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09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2718000"/>
            <a:ext cx="2723400" cy="109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0360" y="2718000"/>
            <a:ext cx="2723400" cy="109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0560" y="2718000"/>
            <a:ext cx="2723400" cy="109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14920"/>
            <a:ext cx="876312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5008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14920"/>
            <a:ext cx="876312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5008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14920"/>
            <a:ext cx="876312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5008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14920"/>
            <a:ext cx="876312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5008"/>
              </a:solidFill>
              <a:latin typeface="Arial Unicode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87631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14920"/>
            <a:ext cx="876312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5008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09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2718000"/>
            <a:ext cx="4127400" cy="109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14920"/>
            <a:ext cx="876312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5008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09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4560" y="2718000"/>
            <a:ext cx="4127400" cy="109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14920"/>
            <a:ext cx="876312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5008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09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09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2718000"/>
            <a:ext cx="8458200" cy="109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f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380880" cy="678168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76312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5008"/>
                </a:solidFill>
                <a:latin typeface="Arial Unicode MS"/>
              </a:rPr>
              <a:t>Click to edit the title text format</a:t>
            </a:r>
            <a:endParaRPr b="0" lang="en-US" sz="3600" spc="-1" strike="noStrike">
              <a:solidFill>
                <a:srgbClr val="ff5008"/>
              </a:solidFill>
              <a:latin typeface="Arial Unicode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2000"/>
          </a:bodyPr>
          <a:p>
            <a:pPr marL="24696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246960" indent="-246960">
              <a:spcBef>
                <a:spcPts val="601"/>
              </a:spcBef>
              <a:buClr>
                <a:srgbClr val="fc0128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246960" indent="-2469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3" marL="246960" indent="-246960">
              <a:spcBef>
                <a:spcPts val="601"/>
              </a:spcBef>
              <a:buClr>
                <a:srgbClr val="8901f3"/>
              </a:buClr>
              <a:buSzPct val="65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4" marL="246960" indent="-246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5" marL="246960" indent="-246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6" marL="246960" indent="-246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7240" y="152280"/>
            <a:ext cx="123840" cy="6629400"/>
          </a:xfrm>
          <a:prstGeom prst="rect">
            <a:avLst/>
          </a:prstGeom>
          <a:gradFill rotWithShape="0">
            <a:gsLst>
              <a:gs pos="0">
                <a:srgbClr val="18997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85760" y="762120"/>
            <a:ext cx="119160" cy="6019560"/>
          </a:xfrm>
          <a:prstGeom prst="rect">
            <a:avLst/>
          </a:prstGeom>
          <a:gradFill rotWithShape="0">
            <a:gsLst>
              <a:gs pos="0">
                <a:srgbClr val="ffb54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8520" y="533520"/>
            <a:ext cx="100080" cy="6248160"/>
          </a:xfrm>
          <a:prstGeom prst="rect">
            <a:avLst/>
          </a:prstGeom>
          <a:gradFill rotWithShape="0">
            <a:gsLst>
              <a:gs pos="0">
                <a:srgbClr val="fc012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914400" y="304920"/>
            <a:ext cx="7829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200" rIns="106200" tIns="52560" bIns="5256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lang="en-US" sz="2400" spc="-1" strike="noStrike">
                <a:solidFill>
                  <a:srgbClr val="c7031a"/>
                </a:solidFill>
                <a:latin typeface="CG Times (WN)"/>
              </a:rPr>
              <a:t>EXAMPLE OF Semantic Differential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6799320" y="2324160"/>
            <a:ext cx="2116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entury Schoolbook"/>
              </a:rPr>
              <a:t>Trustwort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2438280" y="1523880"/>
            <a:ext cx="505008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Century Schoolbook"/>
              </a:rPr>
              <a:t>                                  </a:t>
            </a:r>
            <a:r>
              <a:rPr b="1" lang="en-US" sz="1200" spc="-1" strike="noStrike">
                <a:solidFill>
                  <a:srgbClr val="0000ff"/>
                </a:solidFill>
                <a:latin typeface="Century Schoolbook"/>
              </a:rPr>
              <a:t>Some-                  Som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entury Schoolbook"/>
              </a:rPr>
              <a:t>Extremely   Quite   what   Neither   what    Quite   Extreme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2019240"/>
            <a:ext cx="29084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entury Schoolbook"/>
              </a:rPr>
              <a:t>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entury Schoolbook"/>
              </a:rPr>
              <a:t>Trustwort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6781680" y="4724280"/>
            <a:ext cx="1824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entury Schoolbook"/>
              </a:rPr>
              <a:t>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304920" y="4724280"/>
            <a:ext cx="2585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entury Schoolbook"/>
              </a:rPr>
              <a:t>Not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409680" y="5867280"/>
            <a:ext cx="2514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entury Schoolbook"/>
              </a:rPr>
              <a:t>Knowledge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6815160" y="5562720"/>
            <a:ext cx="23288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entury Schoolbook"/>
              </a:rPr>
              <a:t>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entury Schoolbook"/>
              </a:rPr>
              <a:t>Knowledge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2286000" y="838080"/>
            <a:ext cx="5502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Century Schoolbook"/>
              </a:rPr>
              <a:t>Celebrity Endor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13"/>
          <p:cNvGrpSpPr/>
          <p:nvPr/>
        </p:nvGrpSpPr>
        <p:grpSpPr>
          <a:xfrm>
            <a:off x="3230640" y="5745240"/>
            <a:ext cx="3492360" cy="363240"/>
            <a:chOff x="3230640" y="5745240"/>
            <a:chExt cx="3492360" cy="363240"/>
          </a:xfrm>
        </p:grpSpPr>
        <p:grpSp>
          <p:nvGrpSpPr>
            <p:cNvPr id="52" name="Group 14"/>
            <p:cNvGrpSpPr/>
            <p:nvPr/>
          </p:nvGrpSpPr>
          <p:grpSpPr>
            <a:xfrm>
              <a:off x="3230640" y="5745240"/>
              <a:ext cx="1135080" cy="363240"/>
              <a:chOff x="3230640" y="5745240"/>
              <a:chExt cx="1135080" cy="363240"/>
            </a:xfrm>
          </p:grpSpPr>
          <p:sp>
            <p:nvSpPr>
              <p:cNvPr id="53" name="Line 15"/>
              <p:cNvSpPr/>
              <p:nvPr/>
            </p:nvSpPr>
            <p:spPr>
              <a:xfrm>
                <a:off x="3230640" y="6002280"/>
                <a:ext cx="291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Rectangle 16"/>
              <p:cNvSpPr/>
              <p:nvPr/>
            </p:nvSpPr>
            <p:spPr>
              <a:xfrm>
                <a:off x="3530520" y="5745240"/>
                <a:ext cx="3016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entury Schoolbook"/>
                  </a:rPr>
                  <a:t>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17"/>
              <p:cNvSpPr/>
              <p:nvPr/>
            </p:nvSpPr>
            <p:spPr>
              <a:xfrm>
                <a:off x="4064040" y="5745240"/>
                <a:ext cx="3016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entury Schoolbook"/>
                  </a:rPr>
                  <a:t>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Line 18"/>
              <p:cNvSpPr/>
              <p:nvPr/>
            </p:nvSpPr>
            <p:spPr>
              <a:xfrm>
                <a:off x="3744720" y="6002280"/>
                <a:ext cx="292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" name="Group 19"/>
            <p:cNvGrpSpPr/>
            <p:nvPr/>
          </p:nvGrpSpPr>
          <p:grpSpPr>
            <a:xfrm>
              <a:off x="4297320" y="5745240"/>
              <a:ext cx="1135080" cy="363240"/>
              <a:chOff x="4297320" y="5745240"/>
              <a:chExt cx="1135080" cy="363240"/>
            </a:xfrm>
          </p:grpSpPr>
          <p:sp>
            <p:nvSpPr>
              <p:cNvPr id="58" name="Line 20"/>
              <p:cNvSpPr/>
              <p:nvPr/>
            </p:nvSpPr>
            <p:spPr>
              <a:xfrm>
                <a:off x="4297320" y="6002280"/>
                <a:ext cx="291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21"/>
              <p:cNvSpPr/>
              <p:nvPr/>
            </p:nvSpPr>
            <p:spPr>
              <a:xfrm>
                <a:off x="4597200" y="5745240"/>
                <a:ext cx="3016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entury Schoolbook"/>
                  </a:rPr>
                  <a:t>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22"/>
              <p:cNvSpPr/>
              <p:nvPr/>
            </p:nvSpPr>
            <p:spPr>
              <a:xfrm>
                <a:off x="5130720" y="5745240"/>
                <a:ext cx="3016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entury Schoolbook"/>
                  </a:rPr>
                  <a:t>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23"/>
              <p:cNvSpPr/>
              <p:nvPr/>
            </p:nvSpPr>
            <p:spPr>
              <a:xfrm>
                <a:off x="4811760" y="6002280"/>
                <a:ext cx="291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24"/>
            <p:cNvGrpSpPr/>
            <p:nvPr/>
          </p:nvGrpSpPr>
          <p:grpSpPr>
            <a:xfrm>
              <a:off x="5364000" y="5745240"/>
              <a:ext cx="1135080" cy="363240"/>
              <a:chOff x="5364000" y="5745240"/>
              <a:chExt cx="1135080" cy="363240"/>
            </a:xfrm>
          </p:grpSpPr>
          <p:sp>
            <p:nvSpPr>
              <p:cNvPr id="63" name="Line 25"/>
              <p:cNvSpPr/>
              <p:nvPr/>
            </p:nvSpPr>
            <p:spPr>
              <a:xfrm>
                <a:off x="5364000" y="6002280"/>
                <a:ext cx="292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26"/>
              <p:cNvSpPr/>
              <p:nvPr/>
            </p:nvSpPr>
            <p:spPr>
              <a:xfrm>
                <a:off x="5664240" y="5745240"/>
                <a:ext cx="3016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entury Schoolbook"/>
                  </a:rPr>
                  <a:t>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27"/>
              <p:cNvSpPr/>
              <p:nvPr/>
            </p:nvSpPr>
            <p:spPr>
              <a:xfrm>
                <a:off x="6197400" y="5745240"/>
                <a:ext cx="3016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entury Schoolbook"/>
                  </a:rPr>
                  <a:t>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Line 28"/>
              <p:cNvSpPr/>
              <p:nvPr/>
            </p:nvSpPr>
            <p:spPr>
              <a:xfrm>
                <a:off x="5878440" y="6002280"/>
                <a:ext cx="291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Line 29"/>
            <p:cNvSpPr/>
            <p:nvPr/>
          </p:nvSpPr>
          <p:spPr>
            <a:xfrm>
              <a:off x="6431040" y="601524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30"/>
          <p:cNvGrpSpPr/>
          <p:nvPr/>
        </p:nvGrpSpPr>
        <p:grpSpPr>
          <a:xfrm>
            <a:off x="3197160" y="4602240"/>
            <a:ext cx="3492360" cy="363240"/>
            <a:chOff x="3197160" y="4602240"/>
            <a:chExt cx="3492360" cy="363240"/>
          </a:xfrm>
        </p:grpSpPr>
        <p:grpSp>
          <p:nvGrpSpPr>
            <p:cNvPr id="69" name="Group 31"/>
            <p:cNvGrpSpPr/>
            <p:nvPr/>
          </p:nvGrpSpPr>
          <p:grpSpPr>
            <a:xfrm>
              <a:off x="3197160" y="4602240"/>
              <a:ext cx="1135080" cy="363240"/>
              <a:chOff x="3197160" y="4602240"/>
              <a:chExt cx="1135080" cy="363240"/>
            </a:xfrm>
          </p:grpSpPr>
          <p:sp>
            <p:nvSpPr>
              <p:cNvPr id="70" name="Line 32"/>
              <p:cNvSpPr/>
              <p:nvPr/>
            </p:nvSpPr>
            <p:spPr>
              <a:xfrm>
                <a:off x="3197160" y="4859280"/>
                <a:ext cx="291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Rectangle 33"/>
              <p:cNvSpPr/>
              <p:nvPr/>
            </p:nvSpPr>
            <p:spPr>
              <a:xfrm>
                <a:off x="3497040" y="4602240"/>
                <a:ext cx="3016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entury Schoolbook"/>
                  </a:rPr>
                  <a:t>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Rectangle 34"/>
              <p:cNvSpPr/>
              <p:nvPr/>
            </p:nvSpPr>
            <p:spPr>
              <a:xfrm>
                <a:off x="4030560" y="4602240"/>
                <a:ext cx="3016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entury Schoolbook"/>
                  </a:rPr>
                  <a:t>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Line 35"/>
              <p:cNvSpPr/>
              <p:nvPr/>
            </p:nvSpPr>
            <p:spPr>
              <a:xfrm>
                <a:off x="3711240" y="4859280"/>
                <a:ext cx="292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Group 36"/>
            <p:cNvGrpSpPr/>
            <p:nvPr/>
          </p:nvGrpSpPr>
          <p:grpSpPr>
            <a:xfrm>
              <a:off x="4263840" y="4602240"/>
              <a:ext cx="1135080" cy="363240"/>
              <a:chOff x="4263840" y="4602240"/>
              <a:chExt cx="1135080" cy="363240"/>
            </a:xfrm>
          </p:grpSpPr>
          <p:sp>
            <p:nvSpPr>
              <p:cNvPr id="75" name="Line 37"/>
              <p:cNvSpPr/>
              <p:nvPr/>
            </p:nvSpPr>
            <p:spPr>
              <a:xfrm>
                <a:off x="4263840" y="4859280"/>
                <a:ext cx="291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38"/>
              <p:cNvSpPr/>
              <p:nvPr/>
            </p:nvSpPr>
            <p:spPr>
              <a:xfrm>
                <a:off x="4563720" y="4602240"/>
                <a:ext cx="3016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entury Schoolbook"/>
                  </a:rPr>
                  <a:t>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Rectangle 39"/>
              <p:cNvSpPr/>
              <p:nvPr/>
            </p:nvSpPr>
            <p:spPr>
              <a:xfrm>
                <a:off x="5097240" y="4602240"/>
                <a:ext cx="3016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entury Schoolbook"/>
                  </a:rPr>
                  <a:t>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Line 40"/>
              <p:cNvSpPr/>
              <p:nvPr/>
            </p:nvSpPr>
            <p:spPr>
              <a:xfrm>
                <a:off x="4778280" y="4859280"/>
                <a:ext cx="291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Group 41"/>
            <p:cNvGrpSpPr/>
            <p:nvPr/>
          </p:nvGrpSpPr>
          <p:grpSpPr>
            <a:xfrm>
              <a:off x="5330520" y="4602240"/>
              <a:ext cx="1135080" cy="363240"/>
              <a:chOff x="5330520" y="4602240"/>
              <a:chExt cx="1135080" cy="363240"/>
            </a:xfrm>
          </p:grpSpPr>
          <p:sp>
            <p:nvSpPr>
              <p:cNvPr id="80" name="Line 42"/>
              <p:cNvSpPr/>
              <p:nvPr/>
            </p:nvSpPr>
            <p:spPr>
              <a:xfrm>
                <a:off x="5330520" y="4859280"/>
                <a:ext cx="292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Rectangle 43"/>
              <p:cNvSpPr/>
              <p:nvPr/>
            </p:nvSpPr>
            <p:spPr>
              <a:xfrm>
                <a:off x="5630760" y="4602240"/>
                <a:ext cx="3016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entury Schoolbook"/>
                  </a:rPr>
                  <a:t>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Rectangle 44"/>
              <p:cNvSpPr/>
              <p:nvPr/>
            </p:nvSpPr>
            <p:spPr>
              <a:xfrm>
                <a:off x="6163920" y="4602240"/>
                <a:ext cx="3016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entury Schoolbook"/>
                  </a:rPr>
                  <a:t>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Line 45"/>
              <p:cNvSpPr/>
              <p:nvPr/>
            </p:nvSpPr>
            <p:spPr>
              <a:xfrm>
                <a:off x="5844960" y="4859280"/>
                <a:ext cx="291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Line 46"/>
            <p:cNvSpPr/>
            <p:nvPr/>
          </p:nvSpPr>
          <p:spPr>
            <a:xfrm>
              <a:off x="6397560" y="487188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Rectangle 47"/>
          <p:cNvSpPr/>
          <p:nvPr/>
        </p:nvSpPr>
        <p:spPr>
          <a:xfrm>
            <a:off x="322200" y="3568680"/>
            <a:ext cx="2586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entury Schoolbook"/>
              </a:rPr>
              <a:t>Attra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8"/>
          <p:cNvSpPr/>
          <p:nvPr/>
        </p:nvSpPr>
        <p:spPr>
          <a:xfrm>
            <a:off x="6799320" y="3568680"/>
            <a:ext cx="2227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entury Schoolbook"/>
              </a:rPr>
              <a:t>Unattra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49"/>
          <p:cNvGrpSpPr/>
          <p:nvPr/>
        </p:nvGrpSpPr>
        <p:grpSpPr>
          <a:xfrm>
            <a:off x="3290760" y="3446640"/>
            <a:ext cx="3492720" cy="363240"/>
            <a:chOff x="3290760" y="3446640"/>
            <a:chExt cx="3492720" cy="363240"/>
          </a:xfrm>
        </p:grpSpPr>
        <p:grpSp>
          <p:nvGrpSpPr>
            <p:cNvPr id="88" name="Group 50"/>
            <p:cNvGrpSpPr/>
            <p:nvPr/>
          </p:nvGrpSpPr>
          <p:grpSpPr>
            <a:xfrm>
              <a:off x="3290760" y="3446640"/>
              <a:ext cx="1135080" cy="363240"/>
              <a:chOff x="3290760" y="3446640"/>
              <a:chExt cx="1135080" cy="363240"/>
            </a:xfrm>
          </p:grpSpPr>
          <p:sp>
            <p:nvSpPr>
              <p:cNvPr id="89" name="Line 51"/>
              <p:cNvSpPr/>
              <p:nvPr/>
            </p:nvSpPr>
            <p:spPr>
              <a:xfrm>
                <a:off x="3290760" y="3703680"/>
                <a:ext cx="292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Rectangle 52"/>
              <p:cNvSpPr/>
              <p:nvPr/>
            </p:nvSpPr>
            <p:spPr>
              <a:xfrm>
                <a:off x="3591000" y="3446640"/>
                <a:ext cx="3016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entury Schoolbook"/>
                  </a:rPr>
                  <a:t>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Rectangle 53"/>
              <p:cNvSpPr/>
              <p:nvPr/>
            </p:nvSpPr>
            <p:spPr>
              <a:xfrm>
                <a:off x="4124160" y="3446640"/>
                <a:ext cx="3016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entury Schoolbook"/>
                  </a:rPr>
                  <a:t>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54"/>
              <p:cNvSpPr/>
              <p:nvPr/>
            </p:nvSpPr>
            <p:spPr>
              <a:xfrm>
                <a:off x="3805200" y="3703680"/>
                <a:ext cx="291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Group 55"/>
            <p:cNvGrpSpPr/>
            <p:nvPr/>
          </p:nvGrpSpPr>
          <p:grpSpPr>
            <a:xfrm>
              <a:off x="4357800" y="3446640"/>
              <a:ext cx="1135080" cy="363240"/>
              <a:chOff x="4357800" y="3446640"/>
              <a:chExt cx="1135080" cy="363240"/>
            </a:xfrm>
          </p:grpSpPr>
          <p:sp>
            <p:nvSpPr>
              <p:cNvPr id="94" name="Line 56"/>
              <p:cNvSpPr/>
              <p:nvPr/>
            </p:nvSpPr>
            <p:spPr>
              <a:xfrm>
                <a:off x="4357800" y="3703680"/>
                <a:ext cx="291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Rectangle 57"/>
              <p:cNvSpPr/>
              <p:nvPr/>
            </p:nvSpPr>
            <p:spPr>
              <a:xfrm>
                <a:off x="4657680" y="3446640"/>
                <a:ext cx="3016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entury Schoolbook"/>
                  </a:rPr>
                  <a:t>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Rectangle 58"/>
              <p:cNvSpPr/>
              <p:nvPr/>
            </p:nvSpPr>
            <p:spPr>
              <a:xfrm>
                <a:off x="5191200" y="3446640"/>
                <a:ext cx="3016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entury Schoolbook"/>
                  </a:rPr>
                  <a:t>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59"/>
              <p:cNvSpPr/>
              <p:nvPr/>
            </p:nvSpPr>
            <p:spPr>
              <a:xfrm>
                <a:off x="4871880" y="3703680"/>
                <a:ext cx="292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Group 60"/>
            <p:cNvGrpSpPr/>
            <p:nvPr/>
          </p:nvGrpSpPr>
          <p:grpSpPr>
            <a:xfrm>
              <a:off x="5424480" y="3446640"/>
              <a:ext cx="1135080" cy="363240"/>
              <a:chOff x="5424480" y="3446640"/>
              <a:chExt cx="1135080" cy="363240"/>
            </a:xfrm>
          </p:grpSpPr>
          <p:sp>
            <p:nvSpPr>
              <p:cNvPr id="99" name="Line 61"/>
              <p:cNvSpPr/>
              <p:nvPr/>
            </p:nvSpPr>
            <p:spPr>
              <a:xfrm>
                <a:off x="5424480" y="3703680"/>
                <a:ext cx="291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62"/>
              <p:cNvSpPr/>
              <p:nvPr/>
            </p:nvSpPr>
            <p:spPr>
              <a:xfrm>
                <a:off x="5724360" y="3446640"/>
                <a:ext cx="3016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entury Schoolbook"/>
                  </a:rPr>
                  <a:t>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63"/>
              <p:cNvSpPr/>
              <p:nvPr/>
            </p:nvSpPr>
            <p:spPr>
              <a:xfrm>
                <a:off x="6257880" y="3446640"/>
                <a:ext cx="3016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entury Schoolbook"/>
                  </a:rPr>
                  <a:t>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64"/>
              <p:cNvSpPr/>
              <p:nvPr/>
            </p:nvSpPr>
            <p:spPr>
              <a:xfrm>
                <a:off x="5938920" y="3703680"/>
                <a:ext cx="291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Line 65"/>
            <p:cNvSpPr/>
            <p:nvPr/>
          </p:nvSpPr>
          <p:spPr>
            <a:xfrm>
              <a:off x="6491160" y="371628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66"/>
          <p:cNvGrpSpPr/>
          <p:nvPr/>
        </p:nvGrpSpPr>
        <p:grpSpPr>
          <a:xfrm>
            <a:off x="3214800" y="2201760"/>
            <a:ext cx="3492360" cy="363240"/>
            <a:chOff x="3214800" y="2201760"/>
            <a:chExt cx="3492360" cy="363240"/>
          </a:xfrm>
        </p:grpSpPr>
        <p:grpSp>
          <p:nvGrpSpPr>
            <p:cNvPr id="105" name="Group 67"/>
            <p:cNvGrpSpPr/>
            <p:nvPr/>
          </p:nvGrpSpPr>
          <p:grpSpPr>
            <a:xfrm>
              <a:off x="3214800" y="2201760"/>
              <a:ext cx="1135080" cy="363240"/>
              <a:chOff x="3214800" y="2201760"/>
              <a:chExt cx="1135080" cy="363240"/>
            </a:xfrm>
          </p:grpSpPr>
          <p:sp>
            <p:nvSpPr>
              <p:cNvPr id="106" name="Line 68"/>
              <p:cNvSpPr/>
              <p:nvPr/>
            </p:nvSpPr>
            <p:spPr>
              <a:xfrm>
                <a:off x="3214800" y="2458800"/>
                <a:ext cx="291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69"/>
              <p:cNvSpPr/>
              <p:nvPr/>
            </p:nvSpPr>
            <p:spPr>
              <a:xfrm>
                <a:off x="3514680" y="2201760"/>
                <a:ext cx="3016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entury Schoolbook"/>
                  </a:rPr>
                  <a:t>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70"/>
              <p:cNvSpPr/>
              <p:nvPr/>
            </p:nvSpPr>
            <p:spPr>
              <a:xfrm>
                <a:off x="4048200" y="2201760"/>
                <a:ext cx="3016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entury Schoolbook"/>
                  </a:rPr>
                  <a:t>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71"/>
              <p:cNvSpPr/>
              <p:nvPr/>
            </p:nvSpPr>
            <p:spPr>
              <a:xfrm>
                <a:off x="3728880" y="2458800"/>
                <a:ext cx="292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Group 72"/>
            <p:cNvGrpSpPr/>
            <p:nvPr/>
          </p:nvGrpSpPr>
          <p:grpSpPr>
            <a:xfrm>
              <a:off x="4281480" y="2201760"/>
              <a:ext cx="1135080" cy="363240"/>
              <a:chOff x="4281480" y="2201760"/>
              <a:chExt cx="1135080" cy="363240"/>
            </a:xfrm>
          </p:grpSpPr>
          <p:sp>
            <p:nvSpPr>
              <p:cNvPr id="111" name="Line 73"/>
              <p:cNvSpPr/>
              <p:nvPr/>
            </p:nvSpPr>
            <p:spPr>
              <a:xfrm>
                <a:off x="4281480" y="2458800"/>
                <a:ext cx="291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74"/>
              <p:cNvSpPr/>
              <p:nvPr/>
            </p:nvSpPr>
            <p:spPr>
              <a:xfrm>
                <a:off x="4581360" y="2201760"/>
                <a:ext cx="3016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entury Schoolbook"/>
                  </a:rPr>
                  <a:t>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75"/>
              <p:cNvSpPr/>
              <p:nvPr/>
            </p:nvSpPr>
            <p:spPr>
              <a:xfrm>
                <a:off x="5114880" y="2201760"/>
                <a:ext cx="3016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entury Schoolbook"/>
                  </a:rPr>
                  <a:t>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76"/>
              <p:cNvSpPr/>
              <p:nvPr/>
            </p:nvSpPr>
            <p:spPr>
              <a:xfrm>
                <a:off x="4795920" y="2458800"/>
                <a:ext cx="291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77"/>
            <p:cNvGrpSpPr/>
            <p:nvPr/>
          </p:nvGrpSpPr>
          <p:grpSpPr>
            <a:xfrm>
              <a:off x="5348160" y="2201760"/>
              <a:ext cx="1135080" cy="363240"/>
              <a:chOff x="5348160" y="2201760"/>
              <a:chExt cx="1135080" cy="363240"/>
            </a:xfrm>
          </p:grpSpPr>
          <p:sp>
            <p:nvSpPr>
              <p:cNvPr id="116" name="Line 78"/>
              <p:cNvSpPr/>
              <p:nvPr/>
            </p:nvSpPr>
            <p:spPr>
              <a:xfrm>
                <a:off x="5348160" y="2458800"/>
                <a:ext cx="292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79"/>
              <p:cNvSpPr/>
              <p:nvPr/>
            </p:nvSpPr>
            <p:spPr>
              <a:xfrm>
                <a:off x="5648400" y="2201760"/>
                <a:ext cx="3016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entury Schoolbook"/>
                  </a:rPr>
                  <a:t>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80"/>
              <p:cNvSpPr/>
              <p:nvPr/>
            </p:nvSpPr>
            <p:spPr>
              <a:xfrm>
                <a:off x="6181560" y="2201760"/>
                <a:ext cx="3016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entury Schoolbook"/>
                  </a:rPr>
                  <a:t>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Line 81"/>
              <p:cNvSpPr/>
              <p:nvPr/>
            </p:nvSpPr>
            <p:spPr>
              <a:xfrm>
                <a:off x="5862600" y="2458800"/>
                <a:ext cx="291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Line 82"/>
            <p:cNvSpPr/>
            <p:nvPr/>
          </p:nvSpPr>
          <p:spPr>
            <a:xfrm>
              <a:off x="6415200" y="247176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24T22:51:05Z</dcterms:created>
  <dc:creator>user</dc:creator>
  <dc:description/>
  <dc:language>en-US</dc:language>
  <cp:lastModifiedBy>user</cp:lastModifiedBy>
  <dcterms:modified xsi:type="dcterms:W3CDTF">2015-10-24T22:52:18Z</dcterms:modified>
  <cp:revision>1</cp:revision>
  <dc:subject/>
  <dc:title>PowerPoint Presentation</dc:title>
</cp:coreProperties>
</file>