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925A-85F7-4634-962B-00E3C199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579-6256-40EB-AD6C-EB38FDB2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E03D-96C3-4CA9-B1B2-F5C8EE7E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7B59-664E-4377-9070-17BD1745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2275-1EC2-45E4-A336-CAB892BD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6591-0C08-4303-B134-3AB64A96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1D4E-6D16-41F6-97FC-30A594E6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BACF-8C23-4098-A7A7-522B64FC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506F-A10C-4086-8689-B9F94954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C004-FBD9-4D2C-A7DE-6ECF6FED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F051-EEDB-4189-B07C-34731844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310-0B85-4B68-A5B4-44BF226B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F823-2E80-47E4-B7B1-4FE597CF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7BFB-72C0-498D-9D31-85264B4D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1883-2614-4178-8FF3-2EF124FF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18A5-D545-44D1-BF10-AA7FB6D1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0767-A13D-418F-AFD9-8B5329D1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B75BE-32E9-40FC-B3BE-8FC4A707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26CE0-729C-4E50-8A32-FE9E1213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1544E-08E5-41C0-9877-0E8888E0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4B4AC-D223-4215-8BC1-05819AEB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4833A-CC31-4621-ACCC-74B0D411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9464-357F-47CC-8429-A53BB577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C5186-4097-4D59-81DD-19AB0B41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7CAE1-DB64-4232-839D-444483E8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0EDD0-5F04-4ADA-B094-3F847FE9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E6991-B705-4836-A0F4-DDC1FE72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B58C7-4670-48C2-B574-AD427A00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B7FBB-9E17-4D33-9A3C-401BF8E6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6C931-F0BB-4DEF-BC71-E3CDEB3B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85D46-7DC2-483F-A178-22634B32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F490A-056E-4C53-81F7-27A4C1B1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0B483-CC8E-4C51-93FC-C868AE9A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6DCE-D7F6-4C74-931E-C81CF63E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0F9AF-3B2D-4DCC-A98C-C0779EA0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19981-43CA-4CCA-A924-F70589B1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70327-AFA9-4215-A5DC-107FFAE8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7335F-7C11-4BD4-9FBD-070C857D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AAF3D-B2AB-4696-BBF0-29D4A378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A71D1-5FD2-4AC4-A5C7-A395118E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F7038-2444-4B23-8A85-860C0BA5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4345B-6607-42CA-A40F-CAB14437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0096C-93B0-42C5-A4EB-0A66971B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5A3B-3966-4696-870C-D374BAE0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779-A67E-47F1-9239-4C753B43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06D0-14A7-4770-97A3-6A6A0BF6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C5F-3D41-4C68-88CE-24DD7330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E8DA-B8EB-4FED-81D7-EFD8B175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5460-9816-4B18-89C8-329C77255B3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86EA-3B8F-438D-96E3-7BFB5A1BAE3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0A74-05CD-4E3C-AFC1-22770E76B0DD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5314-43FA-41C4-8520-1AF4D5BE05F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685800" y="152280"/>
            <a:ext cx="8001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US" sz="2400" spc="-1" strike="noStrike">
                <a:solidFill>
                  <a:srgbClr val="c7031a"/>
                </a:solidFill>
                <a:latin typeface="CG Times (WN)"/>
              </a:rPr>
              <a:t>EXAMPLE OF Likert  Sca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2514600" y="990720"/>
            <a:ext cx="14446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Trebuchet MS"/>
              </a:rPr>
              <a:t>Strongl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Trebuchet MS"/>
              </a:rPr>
              <a:t>Disagre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3840120" y="990720"/>
            <a:ext cx="1444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Trebuchet MS"/>
              </a:rPr>
              <a:t>Disagre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632640" y="990720"/>
            <a:ext cx="1444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Trebuchet MS"/>
              </a:rPr>
              <a:t>Agre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5184720" y="752400"/>
            <a:ext cx="1444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Trebuchet MS"/>
              </a:rPr>
              <a:t>Neith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Trebuchet MS"/>
              </a:rPr>
              <a:t>Agree n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Trebuchet MS"/>
              </a:rPr>
              <a:t>Disagre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7824960" y="990720"/>
            <a:ext cx="11667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Trebuchet MS"/>
              </a:rPr>
              <a:t>Strongl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Trebuchet MS"/>
              </a:rPr>
              <a:t>Agre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685800" y="1828800"/>
            <a:ext cx="18288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67c8"/>
                </a:solidFill>
                <a:latin typeface="CG Times (WN)"/>
              </a:rPr>
              <a:t>The celebrity   endorser is     trustworthy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685800" y="4114800"/>
            <a:ext cx="2057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67c8"/>
                </a:solidFill>
                <a:latin typeface="CG Times (WN)"/>
              </a:rPr>
              <a:t>The celebrity    endorser is an expert on the produc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685800" y="2971800"/>
            <a:ext cx="20574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67c8"/>
                </a:solidFill>
                <a:latin typeface="CG Times (WN)"/>
              </a:rPr>
              <a:t>The celebrity   endorser is</a:t>
            </a:r>
            <a:r>
              <a:rPr b="1" lang="en-US" sz="2000" spc="-1" strike="noStrike">
                <a:solidFill>
                  <a:srgbClr val="006600"/>
                </a:solidFill>
                <a:latin typeface="CG Times (WN)"/>
              </a:rPr>
              <a:t>    </a:t>
            </a:r>
            <a:r>
              <a:rPr b="1" lang="en-US" sz="2000" spc="-1" strike="noStrike">
                <a:solidFill>
                  <a:srgbClr val="4e67c8"/>
                </a:solidFill>
                <a:latin typeface="CG Times (WN)"/>
              </a:rPr>
              <a:t>attractive</a:t>
            </a:r>
            <a:r>
              <a:rPr b="1" lang="en-US" sz="2000" spc="-1" strike="noStrike">
                <a:solidFill>
                  <a:srgbClr val="006600"/>
                </a:solidFill>
                <a:latin typeface="CG Times (WN)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685800" y="5486400"/>
            <a:ext cx="22860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67c8"/>
                </a:solidFill>
                <a:latin typeface="CG Times (WN)"/>
              </a:rPr>
              <a:t>The celebrity  endorser is  knowledgeable  about the product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2895480" y="2362320"/>
            <a:ext cx="52092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4267080" y="2362320"/>
            <a:ext cx="52092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5581800" y="2362320"/>
            <a:ext cx="52056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6929280" y="2362320"/>
            <a:ext cx="52092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8305920" y="2362320"/>
            <a:ext cx="52056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2895480" y="3505320"/>
            <a:ext cx="52092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4267080" y="3505320"/>
            <a:ext cx="52092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5581800" y="3505320"/>
            <a:ext cx="52056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6929280" y="3505320"/>
            <a:ext cx="52092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Line 23"/>
          <p:cNvSpPr/>
          <p:nvPr/>
        </p:nvSpPr>
        <p:spPr>
          <a:xfrm>
            <a:off x="8305920" y="3505320"/>
            <a:ext cx="52056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Line 24"/>
          <p:cNvSpPr/>
          <p:nvPr/>
        </p:nvSpPr>
        <p:spPr>
          <a:xfrm>
            <a:off x="2895480" y="4876920"/>
            <a:ext cx="52092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Line 25"/>
          <p:cNvSpPr/>
          <p:nvPr/>
        </p:nvSpPr>
        <p:spPr>
          <a:xfrm>
            <a:off x="4267080" y="4876920"/>
            <a:ext cx="52092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Line 26"/>
          <p:cNvSpPr/>
          <p:nvPr/>
        </p:nvSpPr>
        <p:spPr>
          <a:xfrm>
            <a:off x="5581800" y="4876920"/>
            <a:ext cx="52056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Line 27"/>
          <p:cNvSpPr/>
          <p:nvPr/>
        </p:nvSpPr>
        <p:spPr>
          <a:xfrm>
            <a:off x="6929280" y="4876920"/>
            <a:ext cx="52092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Line 28"/>
          <p:cNvSpPr/>
          <p:nvPr/>
        </p:nvSpPr>
        <p:spPr>
          <a:xfrm>
            <a:off x="8305920" y="4876920"/>
            <a:ext cx="520560" cy="144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Line 29"/>
          <p:cNvSpPr/>
          <p:nvPr/>
        </p:nvSpPr>
        <p:spPr>
          <a:xfrm>
            <a:off x="2895480" y="6324480"/>
            <a:ext cx="520920" cy="180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Line 30"/>
          <p:cNvSpPr/>
          <p:nvPr/>
        </p:nvSpPr>
        <p:spPr>
          <a:xfrm>
            <a:off x="4267080" y="6324480"/>
            <a:ext cx="520920" cy="180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Line 31"/>
          <p:cNvSpPr/>
          <p:nvPr/>
        </p:nvSpPr>
        <p:spPr>
          <a:xfrm>
            <a:off x="5581800" y="6324480"/>
            <a:ext cx="520560" cy="180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Line 32"/>
          <p:cNvSpPr/>
          <p:nvPr/>
        </p:nvSpPr>
        <p:spPr>
          <a:xfrm>
            <a:off x="6929280" y="6324480"/>
            <a:ext cx="520920" cy="180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Line 33"/>
          <p:cNvSpPr/>
          <p:nvPr/>
        </p:nvSpPr>
        <p:spPr>
          <a:xfrm>
            <a:off x="8305920" y="6324480"/>
            <a:ext cx="449280" cy="180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304920" y="1828800"/>
            <a:ext cx="45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67c8"/>
                </a:solidFill>
                <a:latin typeface="CG Times (WN)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Rectangle 35"/>
          <p:cNvSpPr/>
          <p:nvPr/>
        </p:nvSpPr>
        <p:spPr>
          <a:xfrm>
            <a:off x="304920" y="2959200"/>
            <a:ext cx="45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67c8"/>
                </a:solidFill>
                <a:latin typeface="CG Times (WN)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Rectangle 36"/>
          <p:cNvSpPr/>
          <p:nvPr/>
        </p:nvSpPr>
        <p:spPr>
          <a:xfrm>
            <a:off x="304920" y="4102200"/>
            <a:ext cx="45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67c8"/>
                </a:solidFill>
                <a:latin typeface="CG Times (WN)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Rectangle 37"/>
          <p:cNvSpPr/>
          <p:nvPr/>
        </p:nvSpPr>
        <p:spPr>
          <a:xfrm>
            <a:off x="304920" y="5486400"/>
            <a:ext cx="45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67c8"/>
                </a:solidFill>
                <a:latin typeface="CG Times (WN)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4T22:46:22Z</dcterms:created>
  <dc:creator>user</dc:creator>
  <dc:description/>
  <dc:language>en-US</dc:language>
  <cp:lastModifiedBy>user</cp:lastModifiedBy>
  <dcterms:modified xsi:type="dcterms:W3CDTF">2015-10-24T22:50:58Z</dcterms:modified>
  <cp:revision>1</cp:revision>
  <dc:subject/>
  <dc:title>PowerPoint Presentation</dc:title>
</cp:coreProperties>
</file>