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0EF5-A17B-47FF-A288-09758481D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FD25-2550-4F3E-A398-6A6401BA29F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2B5-C652-4C7A-9E21-C837F6B6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A78-C871-4F38-A095-F4AC3FED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E79-5C1C-452E-B3AB-8F748A79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F99-B311-4441-8444-C4DC15E9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C0C5-D483-4DE9-94E9-E7141AFB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6CC8-0595-40BF-A0A3-363DD791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88ED-F3BE-4EFA-AAB1-6A41EB64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EF75-8F85-48ED-AA57-9FA67FA5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32AC-4A1C-4425-ABEB-B1B06AA7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203D-E0ED-4D44-A98C-4DB761AD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CEF3-D474-471D-BC44-F3C055B9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39F-047B-48BA-99AD-F3E77291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DEC6-B6A9-4CBD-BADE-35DC695E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735-07E1-4801-A06B-60DE459B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CE04-46A1-4120-A995-1310B1F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4089-909A-4FCD-85B6-B2DD79BD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739C-F77F-43A8-9A22-4ADA888F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9F7-4115-44E3-82D8-DF8C9CD7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810-9D9A-4B97-B6C8-9195D05A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EAB-2C32-4F8F-BA12-D0C6415F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FEC-EAAC-4F36-ACCA-7BFB8A3C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16D-3749-4294-AD1C-944B42F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BEC-9A8F-454E-A2EE-FE33266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6DB-9EB2-4596-878F-B835DDE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9479-CA9F-4412-B5B6-1BC1CF3558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F580-5D61-4432-926A-D832F893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4B9D-2B7F-4391-AE40-475FF54BD63B}" type="datetime">
              <a:rPr b="0" lang="en-US" sz="1400" spc="-1" strike="noStrike">
                <a:solidFill>
                  <a:srgbClr val="00999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A92-19ED-4EF8-9C66-7971CF9A7828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ample Likert-Scale Question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ate each item on the scale shown to indicate your level of agreement: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 believe in the Bill of Right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rongly agree      agree     uncertain      disagree      strongly disagre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 think that everyone should vot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rongly agree      agree     uncertain      disagree      strongly disagre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st politicians cannot be trust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rongly agree      agree     uncertain      disagree      strongly disagre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10-24T22:54:41Z</dcterms:modified>
  <cp:revision>11</cp:revision>
  <dc:subject/>
  <dc:title>PowerPoint Presentation</dc:title>
</cp:coreProperties>
</file>