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A55-455F-4212-A79A-E8C9743A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146-8F8B-4273-A580-1F788EE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407-4B00-4F42-AA9C-75709137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863-539C-42FB-90AD-75ADB117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FAF-03D2-4AF6-AE85-554D54F2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C98-46E9-4CD2-936A-3CD1A085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9C7-23E5-4C6F-BF2A-C52FB6B7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B19-1218-4CE2-9EA3-40F334E8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2D3-D754-43B8-B141-4B46177C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7DE-6BAE-40A2-988B-7D588E21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2A0-B8ED-41A3-A8A3-0646704B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DC7-FE9E-417C-933A-F608E3FD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4FB7-2F8B-46D9-B14B-0596FA66F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762120"/>
            <a:ext cx="838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1143000"/>
          <a:ext cx="8305560" cy="5181480"/>
        </p:xfrm>
        <a:graphic>
          <a:graphicData uri="http://schemas.openxmlformats.org/drawingml/2006/table">
            <a:tbl>
              <a:tblPr/>
              <a:tblGrid>
                <a:gridCol w="647640"/>
                <a:gridCol w="4308480"/>
                <a:gridCol w="669960"/>
                <a:gridCol w="669960"/>
                <a:gridCol w="669960"/>
                <a:gridCol w="669600"/>
                <a:gridCol w="669960"/>
              </a:tblGrid>
              <a:tr h="30492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s: 1-strongly disagree, 2- disagree, 3- neutral, 4-agree, 5- strongly a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/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irmative perception state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C / Web OPAC was Easier to use than I expec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was Fun to u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was Easy to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 helped me  in finding the documents  fast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Very difficult to u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Very confusing to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found more items than expec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i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am comfortable  with  simple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am comfortable  complex/Advance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am comfortable  quick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am comfortable when using OPAC/Web 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2"/>
          <p:cNvSpPr/>
          <p:nvPr/>
        </p:nvSpPr>
        <p:spPr>
          <a:xfrm>
            <a:off x="1440" y="76248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Q.18.Please measure  the following affirmative perceptions about your library  OPAC and Web OPAC use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6:58:21Z</dcterms:created>
  <dc:creator>Scott</dc:creator>
  <dc:description/>
  <dc:language>en-US</dc:language>
  <cp:lastModifiedBy>user</cp:lastModifiedBy>
  <dcterms:modified xsi:type="dcterms:W3CDTF">2015-10-24T21:59:56Z</dcterms:modified>
  <cp:revision>72</cp:revision>
  <dc:subject/>
  <dc:title>Likert Scale</dc:title>
</cp:coreProperties>
</file>